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1F1-7737-41A8-B039-C33613EB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3C4-388A-4C57-9152-51D3A6BC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45C-D28D-42EC-89BE-ACBDA9AF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638-792C-4DE2-9744-982B4988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B76-6800-4666-9257-5FA162E9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7C8-E1B6-4F2B-B19F-3E618591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B94-73B8-41BC-B086-F5F0E8F1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256-D87F-4537-B1BD-BF9328AC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9A3-A179-4F83-8D7A-5F20E027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9E9-8D99-46B6-BC97-42CEC1C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A6A-C394-4EBD-9AA8-24630EF0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24A-071C-4D00-A7DD-89FE5C4D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5990-B94B-4FDF-8B7F-D7A84A964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1143000"/>
            <a:ext cx="6400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ен на радост и триум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победа над грех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ен във който те прие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повярвах в Твойто слов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0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990720" y="1219320"/>
            <a:ext cx="693396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ен във който ме пр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избави от смърт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Твойто слово ме подкреп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надежда ми подар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295280" y="1143000"/>
            <a:ext cx="6400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ен на радост и триум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победа над грех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ен във който те прие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повярвах в Твойто слов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990720" y="1219320"/>
            <a:ext cx="693396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ен във който ме пр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избави от смърт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Твойто слово ме подкреп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надежда ми подар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51:52Z</dcterms:created>
  <dc:creator>TrifonTrifonow</dc:creator>
  <dc:description/>
  <dc:language>en-US</dc:language>
  <cp:lastModifiedBy>TrifonTrifonow</cp:lastModifiedBy>
  <dcterms:modified xsi:type="dcterms:W3CDTF">2005-12-15T20:52:16Z</dcterms:modified>
  <cp:revision>1</cp:revision>
  <dc:subject/>
  <dc:title>Slide 1</dc:title>
</cp:coreProperties>
</file>